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4D2F4-0806-42BB-9208-BD6E6E8E2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2B6EE-AB50-4432-BE1B-C1671C0A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C7CAB-9233-4A8D-899C-2B5DEDC84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C3FC0-7C42-4E32-A2C6-0D2846395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F51A-4332-42AD-8FD1-EC9123793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9F32A-0A17-410A-9A74-194EACC1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638F-94F2-421A-9C80-91182721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88B15-2E46-44B0-96E6-9AD4F2E8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B9F4B-E9C2-4581-8AB7-BF285DDF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DEC66-980D-4D73-A39B-9E06F5F8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69E70-246C-4595-A964-EDA4486F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5B9E4-FCFA-486C-A2EC-571FCD1B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954E-4CEE-4D47-AD07-C0CDBF9D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37176-DC2B-400A-ABD7-3C85021E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2950-A0F0-48DA-B4E9-515485F9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E9CB-B208-41A8-B168-C0BEA39F4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B8483-E481-4CD7-8F44-92BE20FA0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611C9-18BD-4192-B674-479E97A4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97802-3282-47CE-8D7A-E241D2AF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E6F92-170F-4CEC-AD47-546EBE4F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55731-84F6-47B2-8137-423AB3ED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BCF2D-9550-45DF-AED9-601F9BE1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84E9F-8A5F-49D2-B8B2-D492DD85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1AADC-EC3D-4C80-B97E-BA5E9E48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A3C3-2B51-43B6-AA33-F74F3154230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0937-6F92-4049-A343-45E252365D7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6"/>
          <p:cNvSpPr txBox="1"/>
          <p:nvPr/>
        </p:nvSpPr>
        <p:spPr>
          <a:xfrm>
            <a:off x="1547640" y="3357720"/>
            <a:ext cx="3181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noFill/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итательные</a:t>
            </a:r>
            <a:endParaRPr b="0" i="1" lang="en-US" sz="1800" spc="1" strike="noStrike">
              <a:ln w="0">
                <a:noFill/>
              </a:ln>
              <a:noFill/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WordArt 9"/>
          <p:cNvSpPr txBox="1"/>
          <p:nvPr/>
        </p:nvSpPr>
        <p:spPr>
          <a:xfrm>
            <a:off x="395280" y="1197000"/>
            <a:ext cx="352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Питательные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WordArt 10"/>
          <p:cNvSpPr txBox="1"/>
          <p:nvPr/>
        </p:nvSpPr>
        <p:spPr>
          <a:xfrm>
            <a:off x="1979640" y="2492280"/>
            <a:ext cx="2663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вещества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9" name="WordArt 11"/>
          <p:cNvSpPr txBox="1"/>
          <p:nvPr/>
        </p:nvSpPr>
        <p:spPr>
          <a:xfrm>
            <a:off x="3203640" y="3645000"/>
            <a:ext cx="3529080" cy="59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и их значение 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0" name="WordArt 12"/>
          <p:cNvSpPr txBox="1"/>
          <p:nvPr/>
        </p:nvSpPr>
        <p:spPr>
          <a:xfrm>
            <a:off x="4140360" y="494172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для организма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Organization Chart 7"/>
          <p:cNvGrpSpPr/>
          <p:nvPr/>
        </p:nvGrpSpPr>
        <p:grpSpPr>
          <a:xfrm>
            <a:off x="395280" y="476280"/>
            <a:ext cx="8424360" cy="5759280"/>
            <a:chOff x="395280" y="476280"/>
            <a:chExt cx="8424360" cy="5759280"/>
          </a:xfrm>
        </p:grpSpPr>
        <p:cxnSp>
          <p:nvCxnSpPr>
            <p:cNvPr id="112" name="_s1028"/>
            <p:cNvCxnSpPr>
              <a:stCxn id="113" idx="0"/>
              <a:endCxn id="114" idx="3"/>
            </p:cNvCxnSpPr>
            <p:nvPr/>
          </p:nvCxnSpPr>
          <p:spPr>
            <a:xfrm flipV="1" rot="16200000">
              <a:off x="5669280" y="1614960"/>
              <a:ext cx="1152360" cy="3480480"/>
            </a:xfrm>
            <a:prstGeom prst="bentConnector3">
              <a:avLst>
                <a:gd name="adj1" fmla="val 9906"/>
              </a:avLst>
            </a:prstGeom>
            <a:ln w="28440">
              <a:solidFill>
                <a:srgbClr val="00007d"/>
              </a:solidFill>
              <a:miter/>
            </a:ln>
          </p:spPr>
        </p:cxnSp>
        <p:cxnSp>
          <p:nvCxnSpPr>
            <p:cNvPr id="115" name="_s1029"/>
            <p:cNvCxnSpPr>
              <a:stCxn id="116" idx="0"/>
              <a:endCxn id="114" idx="3"/>
            </p:cNvCxnSpPr>
            <p:nvPr/>
          </p:nvCxnSpPr>
          <p:spPr>
            <a:xfrm flipV="1" rot="16200000">
              <a:off x="4577040" y="2707200"/>
              <a:ext cx="1152360" cy="1296360"/>
            </a:xfrm>
            <a:prstGeom prst="bentConnector3">
              <a:avLst>
                <a:gd name="adj1" fmla="val 9906"/>
              </a:avLst>
            </a:prstGeom>
            <a:ln w="28440">
              <a:solidFill>
                <a:srgbClr val="00007d"/>
              </a:solidFill>
              <a:miter/>
            </a:ln>
          </p:spPr>
        </p:cxnSp>
        <p:cxnSp>
          <p:nvCxnSpPr>
            <p:cNvPr id="117" name="_s1030"/>
            <p:cNvCxnSpPr>
              <a:stCxn id="118" idx="0"/>
              <a:endCxn id="114" idx="3"/>
            </p:cNvCxnSpPr>
            <p:nvPr/>
          </p:nvCxnSpPr>
          <p:spPr>
            <a:xfrm flipH="1" flipV="1" rot="5400000">
              <a:off x="3484440" y="2909880"/>
              <a:ext cx="1152360" cy="891360"/>
            </a:xfrm>
            <a:prstGeom prst="bentConnector3">
              <a:avLst>
                <a:gd name="adj1" fmla="val 9906"/>
              </a:avLst>
            </a:prstGeom>
            <a:ln w="28440">
              <a:solidFill>
                <a:srgbClr val="00007d"/>
              </a:solidFill>
              <a:miter/>
            </a:ln>
          </p:spPr>
        </p:cxnSp>
        <p:cxnSp>
          <p:nvCxnSpPr>
            <p:cNvPr id="119" name="_s1031"/>
            <p:cNvCxnSpPr>
              <a:stCxn id="120" idx="0"/>
              <a:endCxn id="114" idx="3"/>
            </p:cNvCxnSpPr>
            <p:nvPr/>
          </p:nvCxnSpPr>
          <p:spPr>
            <a:xfrm flipH="1" flipV="1" rot="5400000">
              <a:off x="2392200" y="1817640"/>
              <a:ext cx="1152360" cy="3075480"/>
            </a:xfrm>
            <a:prstGeom prst="bentConnector3">
              <a:avLst>
                <a:gd name="adj1" fmla="val 9906"/>
              </a:avLst>
            </a:prstGeom>
            <a:ln w="28440">
              <a:solidFill>
                <a:srgbClr val="00007d"/>
              </a:solidFill>
              <a:miter/>
            </a:ln>
          </p:spPr>
        </p:cxnSp>
        <p:sp>
          <p:nvSpPr>
            <p:cNvPr id="114" name="_s1032"/>
            <p:cNvSpPr/>
            <p:nvPr/>
          </p:nvSpPr>
          <p:spPr>
            <a:xfrm>
              <a:off x="3671640" y="476280"/>
              <a:ext cx="1872000" cy="230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 Black"/>
                </a:rPr>
                <a:t>Питатель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 Black"/>
                </a:rPr>
                <a:t>веще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33"/>
            <p:cNvSpPr/>
            <p:nvPr/>
          </p:nvSpPr>
          <p:spPr>
            <a:xfrm>
              <a:off x="395280" y="3931920"/>
              <a:ext cx="1872000" cy="230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34"/>
            <p:cNvSpPr/>
            <p:nvPr/>
          </p:nvSpPr>
          <p:spPr>
            <a:xfrm>
              <a:off x="2579400" y="3931920"/>
              <a:ext cx="1872000" cy="230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35"/>
            <p:cNvSpPr/>
            <p:nvPr/>
          </p:nvSpPr>
          <p:spPr>
            <a:xfrm>
              <a:off x="4763520" y="3931920"/>
              <a:ext cx="1872000" cy="230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36"/>
            <p:cNvSpPr/>
            <p:nvPr/>
          </p:nvSpPr>
          <p:spPr>
            <a:xfrm>
              <a:off x="6947640" y="3931920"/>
              <a:ext cx="1872000" cy="230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WordArt 29"/>
          <p:cNvSpPr txBox="1"/>
          <p:nvPr/>
        </p:nvSpPr>
        <p:spPr>
          <a:xfrm rot="20364000">
            <a:off x="4716360" y="4868640"/>
            <a:ext cx="1800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436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глевод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436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2" name="WordArt 30"/>
          <p:cNvSpPr txBox="1"/>
          <p:nvPr/>
        </p:nvSpPr>
        <p:spPr>
          <a:xfrm rot="20677800">
            <a:off x="2627280" y="4797000"/>
            <a:ext cx="1584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24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ел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24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3" name="WordArt 31"/>
          <p:cNvSpPr txBox="1"/>
          <p:nvPr/>
        </p:nvSpPr>
        <p:spPr>
          <a:xfrm rot="20751600">
            <a:off x="469800" y="4857840"/>
            <a:ext cx="151632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686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жир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686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9"/>
          <p:cNvSpPr txBox="1"/>
          <p:nvPr/>
        </p:nvSpPr>
        <p:spPr>
          <a:xfrm>
            <a:off x="2411280" y="1125360"/>
            <a:ext cx="6048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троительный материал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5" name="WordArt 10"/>
          <p:cNvSpPr txBox="1"/>
          <p:nvPr/>
        </p:nvSpPr>
        <p:spPr>
          <a:xfrm>
            <a:off x="468360" y="1052640"/>
            <a:ext cx="1685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елок  -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WordArt 11"/>
          <p:cNvSpPr txBox="1"/>
          <p:nvPr/>
        </p:nvSpPr>
        <p:spPr>
          <a:xfrm>
            <a:off x="539640" y="4005360"/>
            <a:ext cx="3857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елок нужен для: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WordArt 13"/>
          <p:cNvSpPr txBox="1"/>
          <p:nvPr/>
        </p:nvSpPr>
        <p:spPr>
          <a:xfrm>
            <a:off x="468360" y="4797360"/>
            <a:ext cx="16095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 роста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WordArt 14"/>
          <p:cNvSpPr txBox="1"/>
          <p:nvPr/>
        </p:nvSpPr>
        <p:spPr>
          <a:xfrm>
            <a:off x="468360" y="5373720"/>
            <a:ext cx="4705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 развития организма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WordArt 15"/>
          <p:cNvSpPr txBox="1"/>
          <p:nvPr/>
        </p:nvSpPr>
        <p:spPr>
          <a:xfrm>
            <a:off x="468360" y="5805360"/>
            <a:ext cx="8069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 повышения сопротивляемости болезни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0" name="Oval 16"/>
          <p:cNvSpPr/>
          <p:nvPr/>
        </p:nvSpPr>
        <p:spPr>
          <a:xfrm>
            <a:off x="2340000" y="1773360"/>
            <a:ext cx="4392720" cy="22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70"/>
          <p:cNvGrpSpPr/>
          <p:nvPr/>
        </p:nvGrpSpPr>
        <p:grpSpPr>
          <a:xfrm>
            <a:off x="3276720" y="1916280"/>
            <a:ext cx="2590200" cy="2017440"/>
            <a:chOff x="3276720" y="1916280"/>
            <a:chExt cx="2590200" cy="2017440"/>
          </a:xfrm>
        </p:grpSpPr>
        <p:sp>
          <p:nvSpPr>
            <p:cNvPr id="132" name="Puzzle3"/>
            <p:cNvSpPr/>
            <p:nvPr/>
          </p:nvSpPr>
          <p:spPr>
            <a:xfrm>
              <a:off x="4538160" y="1916280"/>
              <a:ext cx="1018080" cy="1072080"/>
            </a:xfrm>
            <a:custGeom>
              <a:avLst/>
              <a:gdLst>
                <a:gd name="textAreaLeft" fmla="*/ 106920 w 1018080"/>
                <a:gd name="textAreaRight" fmla="*/ 903240 w 1018080"/>
                <a:gd name="textAreaTop" fmla="*/ 383040 h 1072080"/>
                <a:gd name="textAreaBottom" fmla="*/ 1004400 h 107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Puzzle2"/>
            <p:cNvSpPr/>
            <p:nvPr/>
          </p:nvSpPr>
          <p:spPr>
            <a:xfrm>
              <a:off x="4241880" y="2697120"/>
              <a:ext cx="1625040" cy="976320"/>
            </a:xfrm>
            <a:custGeom>
              <a:avLst/>
              <a:gdLst>
                <a:gd name="textAreaLeft" fmla="*/ 405720 w 1625040"/>
                <a:gd name="textAreaRight" fmla="*/ 1217520 w 1625040"/>
                <a:gd name="textAreaTop" fmla="*/ 304200 h 976320"/>
                <a:gd name="textAreaBottom" fmla="*/ 924120 h 9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Puzzle4"/>
            <p:cNvSpPr/>
            <p:nvPr/>
          </p:nvSpPr>
          <p:spPr>
            <a:xfrm>
              <a:off x="3612960" y="2685240"/>
              <a:ext cx="979920" cy="1248480"/>
            </a:xfrm>
            <a:custGeom>
              <a:avLst/>
              <a:gdLst>
                <a:gd name="textAreaLeft" fmla="*/ 93960 w 979920"/>
                <a:gd name="textAreaRight" fmla="*/ 916920 w 979920"/>
                <a:gd name="textAreaTop" fmla="*/ 327240 h 1248480"/>
                <a:gd name="textAreaBottom" fmla="*/ 923400 h 124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Puzzle1"/>
            <p:cNvSpPr/>
            <p:nvPr/>
          </p:nvSpPr>
          <p:spPr>
            <a:xfrm>
              <a:off x="3276720" y="2240640"/>
              <a:ext cx="1645560" cy="744120"/>
            </a:xfrm>
            <a:custGeom>
              <a:avLst/>
              <a:gdLst>
                <a:gd name="textAreaLeft" fmla="*/ 463320 w 1645560"/>
                <a:gd name="textAreaRight" fmla="*/ 1228680 w 1645560"/>
                <a:gd name="textAreaTop" fmla="*/ 88200 h 744120"/>
                <a:gd name="textAreaBottom" fmla="*/ 673560 h 74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5"/>
          <p:cNvSpPr txBox="1"/>
          <p:nvPr/>
        </p:nvSpPr>
        <p:spPr>
          <a:xfrm>
            <a:off x="611280" y="1052640"/>
            <a:ext cx="2295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глеводы  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7" name="WordArt 6"/>
          <p:cNvSpPr txBox="1"/>
          <p:nvPr/>
        </p:nvSpPr>
        <p:spPr>
          <a:xfrm>
            <a:off x="3132000" y="1268280"/>
            <a:ext cx="376236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опливо для клеток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8" name="Picture 10" descr="anixmasc"/>
          <p:cNvPicPr/>
          <p:nvPr/>
        </p:nvPicPr>
        <p:blipFill>
          <a:blip r:embed="rId1"/>
          <a:stretch/>
        </p:blipFill>
        <p:spPr>
          <a:xfrm>
            <a:off x="3348000" y="2205000"/>
            <a:ext cx="1895400" cy="1152720"/>
          </a:xfrm>
          <a:prstGeom prst="rect">
            <a:avLst/>
          </a:prstGeom>
          <a:ln w="0">
            <a:noFill/>
          </a:ln>
        </p:spPr>
      </p:pic>
      <p:sp>
        <p:nvSpPr>
          <p:cNvPr id="139" name="WordArt 11"/>
          <p:cNvSpPr txBox="1"/>
          <p:nvPr/>
        </p:nvSpPr>
        <p:spPr>
          <a:xfrm>
            <a:off x="539640" y="4724280"/>
            <a:ext cx="413388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глеводы нужны дл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0" name="WordArt 12"/>
          <p:cNvSpPr txBox="1"/>
          <p:nvPr/>
        </p:nvSpPr>
        <p:spPr>
          <a:xfrm>
            <a:off x="539640" y="5589720"/>
            <a:ext cx="653436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изической и умственной работы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1" name="Oval 13"/>
          <p:cNvSpPr/>
          <p:nvPr/>
        </p:nvSpPr>
        <p:spPr>
          <a:xfrm>
            <a:off x="2627280" y="1844640"/>
            <a:ext cx="316692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6"/>
          <p:cNvSpPr txBox="1"/>
          <p:nvPr/>
        </p:nvSpPr>
        <p:spPr>
          <a:xfrm>
            <a:off x="684360" y="1125360"/>
            <a:ext cx="16668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иры  -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3" name="WordArt 7"/>
          <p:cNvSpPr txBox="1"/>
          <p:nvPr/>
        </p:nvSpPr>
        <p:spPr>
          <a:xfrm>
            <a:off x="2700360" y="1268280"/>
            <a:ext cx="41911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клад еды, топлива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4" name="WordArt 8"/>
          <p:cNvSpPr txBox="1"/>
          <p:nvPr/>
        </p:nvSpPr>
        <p:spPr>
          <a:xfrm>
            <a:off x="468360" y="4797360"/>
            <a:ext cx="3666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иры нужны дл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5" name="WordArt 9"/>
          <p:cNvSpPr txBox="1"/>
          <p:nvPr/>
        </p:nvSpPr>
        <p:spPr>
          <a:xfrm>
            <a:off x="395280" y="5734080"/>
            <a:ext cx="716292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боты мозга и нервной системы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6" name="Homepage"/>
          <p:cNvSpPr/>
          <p:nvPr/>
        </p:nvSpPr>
        <p:spPr>
          <a:xfrm>
            <a:off x="2627280" y="2133720"/>
            <a:ext cx="3673440" cy="2158920"/>
          </a:xfrm>
          <a:custGeom>
            <a:avLst/>
            <a:gdLst>
              <a:gd name="textAreaLeft" fmla="*/ 169560 w 3673440"/>
              <a:gd name="textAreaRight" fmla="*/ 3539880 w 3673440"/>
              <a:gd name="textAreaTop" fmla="*/ 1216800 h 2158920"/>
              <a:gd name="textAreaBottom" fmla="*/ 1714320 h 215892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5251" y="7101"/>
                </a:moveTo>
                <a:lnTo>
                  <a:pt x="5251" y="11160"/>
                </a:lnTo>
                <a:lnTo>
                  <a:pt x="16306" y="11160"/>
                </a:lnTo>
                <a:lnTo>
                  <a:pt x="16306" y="7052"/>
                </a:lnTo>
                <a:lnTo>
                  <a:pt x="16901" y="6561"/>
                </a:lnTo>
                <a:lnTo>
                  <a:pt x="15264" y="5236"/>
                </a:lnTo>
                <a:lnTo>
                  <a:pt x="15264" y="1636"/>
                </a:lnTo>
                <a:lnTo>
                  <a:pt x="13478" y="1636"/>
                </a:lnTo>
                <a:lnTo>
                  <a:pt x="13478" y="3698"/>
                </a:lnTo>
                <a:lnTo>
                  <a:pt x="11182" y="1669"/>
                </a:lnTo>
                <a:lnTo>
                  <a:pt x="4847" y="6561"/>
                </a:lnTo>
                <a:lnTo>
                  <a:pt x="5251" y="7101"/>
                </a:lnTo>
                <a:close/>
              </a:path>
              <a:path w="21600" h="21600">
                <a:moveTo>
                  <a:pt x="9396" y="11160"/>
                </a:moveTo>
                <a:lnTo>
                  <a:pt x="9396" y="7772"/>
                </a:lnTo>
                <a:lnTo>
                  <a:pt x="11820" y="7772"/>
                </a:lnTo>
                <a:lnTo>
                  <a:pt x="11820" y="11160"/>
                </a:lnTo>
                <a:lnTo>
                  <a:pt x="9396" y="1116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2"/>
          <p:cNvSpPr/>
          <p:nvPr/>
        </p:nvSpPr>
        <p:spPr>
          <a:xfrm>
            <a:off x="8172360" y="5445000"/>
            <a:ext cx="576360" cy="648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8000"/>
              <a:gd name="textAreaBottom" fmla="*/ 610920 h 648000"/>
            </a:gdLst>
            <a:ahLst/>
            <a:rect l="textAreaLeft" t="textAreaTop" r="textAreaRight" b="textAreaBottom"/>
            <a:pathLst>
              <a:path w="21600" h="24283">
                <a:moveTo>
                  <a:pt x="0" y="0"/>
                </a:moveTo>
                <a:lnTo>
                  <a:pt x="21600" y="0"/>
                </a:lnTo>
                <a:lnTo>
                  <a:pt x="21600" y="24283"/>
                </a:lnTo>
                <a:lnTo>
                  <a:pt x="0" y="24283"/>
                </a:lnTo>
                <a:close/>
              </a:path>
              <a:path fill="lightenLess" w="21600" h="242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3">
                <a:moveTo>
                  <a:pt x="21600" y="0"/>
                </a:moveTo>
                <a:lnTo>
                  <a:pt x="21600" y="24283"/>
                </a:lnTo>
                <a:lnTo>
                  <a:pt x="20200" y="22883"/>
                </a:lnTo>
                <a:lnTo>
                  <a:pt x="20200" y="1400"/>
                </a:lnTo>
                <a:close/>
              </a:path>
              <a:path fill="darkenLess" w="21600" h="24283">
                <a:moveTo>
                  <a:pt x="21600" y="24283"/>
                </a:moveTo>
                <a:lnTo>
                  <a:pt x="0" y="24283"/>
                </a:lnTo>
                <a:lnTo>
                  <a:pt x="1400" y="22883"/>
                </a:lnTo>
                <a:lnTo>
                  <a:pt x="20200" y="22883"/>
                </a:lnTo>
                <a:close/>
              </a:path>
              <a:path fill="lighten" w="21600" h="24283">
                <a:moveTo>
                  <a:pt x="0" y="242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3"/>
                </a:lnTo>
                <a:close/>
              </a:path>
              <a:path fill="darken" w="21600" h="24283">
                <a:moveTo>
                  <a:pt x="3794" y="5135"/>
                </a:moveTo>
                <a:lnTo>
                  <a:pt x="17806" y="12142"/>
                </a:lnTo>
                <a:lnTo>
                  <a:pt x="3794" y="19148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755640" y="1268280"/>
            <a:ext cx="799308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Чтобы расти здоровыми, надо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правильно питатьс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Пища должна быть не тольк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вкусной, но и …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полезно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3.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В свой рацион питания надо больше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включать …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овощей и фрукто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Продукты питания содержат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белки, жиры и углеводы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WordArt 5"/>
          <p:cNvSpPr txBox="1"/>
          <p:nvPr/>
        </p:nvSpPr>
        <p:spPr>
          <a:xfrm>
            <a:off x="2411280" y="620640"/>
            <a:ext cx="6336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должите предложе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Человеку нужно есть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Чтобы встать и чтобы сесть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Чтоб расти и кувыркаться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Песни петь, дружить, смеяться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Чтоб расти и развиватьс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И при этом не болеть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Нужно правильно питатьс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С самых юных лет уметь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PH02810J"/>
          <p:cNvPicPr/>
          <p:nvPr/>
        </p:nvPicPr>
        <p:blipFill>
          <a:blip r:embed="rId1"/>
          <a:stretch/>
        </p:blipFill>
        <p:spPr>
          <a:xfrm>
            <a:off x="7383600" y="5495760"/>
            <a:ext cx="1760400" cy="1362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PH02759J"/>
          <p:cNvPicPr/>
          <p:nvPr/>
        </p:nvPicPr>
        <p:blipFill>
          <a:blip r:embed="rId2"/>
          <a:stretch/>
        </p:blipFill>
        <p:spPr>
          <a:xfrm>
            <a:off x="6732720" y="4292640"/>
            <a:ext cx="180000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1547640" y="3357720"/>
            <a:ext cx="3181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noFill/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итательные</a:t>
            </a:r>
            <a:endParaRPr b="0" i="1" lang="en-US" sz="1800" spc="1" strike="noStrike">
              <a:ln w="0">
                <a:noFill/>
              </a:ln>
              <a:noFill/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5" name="WordArt 3"/>
          <p:cNvSpPr txBox="1"/>
          <p:nvPr/>
        </p:nvSpPr>
        <p:spPr>
          <a:xfrm>
            <a:off x="395280" y="1197000"/>
            <a:ext cx="352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Питательные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6" name="WordArt 4"/>
          <p:cNvSpPr txBox="1"/>
          <p:nvPr/>
        </p:nvSpPr>
        <p:spPr>
          <a:xfrm>
            <a:off x="1979640" y="2492280"/>
            <a:ext cx="2663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вещества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7" name="WordArt 5"/>
          <p:cNvSpPr txBox="1"/>
          <p:nvPr/>
        </p:nvSpPr>
        <p:spPr>
          <a:xfrm>
            <a:off x="3203640" y="3645000"/>
            <a:ext cx="3529080" cy="59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и их значение 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8" name="WordArt 6"/>
          <p:cNvSpPr txBox="1"/>
          <p:nvPr/>
        </p:nvSpPr>
        <p:spPr>
          <a:xfrm>
            <a:off x="4140360" y="494172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для организма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19:39:22Z</dcterms:created>
  <dc:creator>1</dc:creator>
  <dc:description/>
  <dc:language>en-US</dc:language>
  <cp:lastModifiedBy>Дарёна</cp:lastModifiedBy>
  <dcterms:modified xsi:type="dcterms:W3CDTF">2012-01-12T10:15:35Z</dcterms:modified>
  <cp:revision>16</cp:revision>
  <dc:subject/>
  <dc:title>Слайд 1</dc:title>
</cp:coreProperties>
</file>